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move the slide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DDE9-D34E-431B-A84A-5F25C29BE5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FD9-930C-4902-8925-63853B6441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346D-EAD5-4B72-95F7-88B3BE25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DD0-64B1-4E32-B1FB-141E7936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68F-351A-465F-92B6-05045BA7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D8D-E5D3-421F-99C9-9AC501F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F996A-716B-4345-91A8-D2A218CB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12561-E8E1-4485-A37C-3982F676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27E9E-F813-4E5E-8BE2-80E532A0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48F45-F603-45DB-9D54-BA5162DD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D8E85-1C87-4032-856B-DD4CB2D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BDBA0-1868-41C9-985B-8946B565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F81D3-E8C1-4CE6-A30C-6753F79A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0D5-482A-4D07-A2E0-E9EA773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69046-AF05-4FC5-8C41-BA7762C8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1A74-50DE-4F1F-BB7C-F85D332E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B8455-44C5-40BA-A7E2-C62F84AC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8CC7E-689C-451E-900B-3CA224DE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AEA3A-401C-4423-8566-D1D737B8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940F-7D91-4AE8-A1FA-4EFFFB2A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2261C-FCDF-40CB-84BC-470C011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6A2F6-2D8C-4502-8CE7-A9756B07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140F-83DA-4AB0-9750-7CB2A4CC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F4FF-0B1A-4415-B71D-4ACE5EC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DDE-FE89-47B2-B7E4-85DEB4E5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23EA-2A75-44FA-B18D-C955A858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99F1-7120-4412-937E-62A9DC50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63540-1E53-4974-8FA4-FAF120F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2E031-7B28-4D8B-944A-1A5AA446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F440-27A4-44CD-8A78-30214319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6C2B1-2C30-4DED-8638-5A6D449C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9441-D731-4D8C-8679-1CD0CF5B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75B4-146B-40A0-A149-D510D107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76660-948A-4864-85B2-D5B69F8C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6E58-F49C-4A7D-A885-40952D28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3FD6-7053-492B-9AA0-A7A39E7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5853-C816-4FA8-8067-3C1E8CDC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EA51-C71F-43DF-98B0-ADDC3A7F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B2BEF-9B72-499E-8FB9-2906741D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3F6A-3652-4E87-9495-D915E507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06C61-8B13-4C4E-BF26-7F2D7B4E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F9BE-C738-4746-9F88-09B371A3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164F-3010-4EBA-97E5-C5F9CC59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09A31-EA96-446D-A5A0-94344C68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3F83-19C8-4E38-BC5F-7B463075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9A4A-EC8E-4A82-B509-8B9D8557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CAA-F336-4638-BCD5-2EE1F18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0E4A6-F7D3-4CEF-84FC-7F2647F4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0B44-35C3-4B0F-AA64-2087888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CDF46-19B2-48A9-A3AC-FF5429F3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5027-A838-4E84-A4A3-5305A56E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38797-5ADC-4F63-8162-3277EB94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394E8-45F8-4FB6-8422-E3559500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EC790-FEA0-450C-A064-779E21CC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DDEFD-D584-4250-B50B-3C9BA1C8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C6559-F21D-48DA-988C-95A8783C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8C373-C64C-4B14-890E-E11AAA78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1B0-39CF-4456-A06F-BE7FA4D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64CE2-051E-40F5-87E7-D0649458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9B21-4E46-4750-9D25-30B10A4D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309AC-EDC8-4707-A4BF-96BC0FBB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AD975-1D3F-4646-B6F8-57A8205B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C1ACA-040A-4699-B724-E5EAECE4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19F95-95B0-4E14-9567-8382F2E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F9AC9-5F4C-448E-B350-D1500568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47D3-66F7-42D7-A6AD-5F7DEEC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DCCA4-0C2D-4309-A25C-3E0EA9F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9550-2CC1-48D2-A6C1-F0828B92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DE5-92D9-4D05-B1EB-AF3CF683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502C-AF6F-4473-A6B5-A47F655E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6636-3613-4AB7-BA51-733CF68A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E5C5-B449-4EC5-8EC7-65B73F5C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CADDE-F85C-4861-B0C7-D02245F4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50242-D823-4397-A803-4FD66E76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A7FB9-901C-4655-87CB-5DA827E2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FD15-0C1F-4348-B5B4-0C5D65D4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14BB6-7B1C-47EF-A7A1-20A421F3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A699D-2535-49F5-927F-EFF96991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F6E2B-B51C-40F8-B54F-5F462A0A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DB6C-3595-4388-9FC6-3A4B5FA3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3784-AA7C-430B-B2D8-AA67C8AE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8EC88-037C-4315-992B-70015382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C9A14-1BD7-4A59-8898-8F3A5FF7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5A44C-65CF-44D9-BBFB-65F4C026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CA05-B0D8-4031-9777-921BA85A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8AE0C-935B-49F8-891C-AF1C769A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AFB3-361A-4624-85F0-70548B49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BE109-6DC9-4977-95CA-391B8EEA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1CA05-ABA5-480F-AF90-4FBA273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2F846-3B42-4FA5-9B09-D5983327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68-D6DF-4455-A29E-4CFA62E4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58800" y="455400"/>
            <a:ext cx="7824960" cy="61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99202-34FD-46CE-BCB1-59ABE77E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243B9-CEDD-424E-B447-DBCC5744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9DD77-6461-406E-9C29-D0940C5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52E2A-A4AB-4D3E-8E76-1732D5C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286000" y="4291560"/>
            <a:ext cx="61977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D07E-73B2-4BCE-82CC-5764C036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461920" y="228564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228600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461920" y="4291560"/>
            <a:ext cx="302436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E3577-DCD8-45A6-9C96-1BD34A10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8156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77120" y="228564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228600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8156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77120" y="4291560"/>
            <a:ext cx="19954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EC2E8-250C-47CC-987C-FECD4733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EBE6-4C7B-4F24-8469-4AD1E2C4DB22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D8EE-90C7-4854-9DDC-905621568849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D6A1-8255-4373-9EFA-1F461962E4B0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900-4193-4212-B1A2-BA5DA606B3C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C83-0403-4125-A8B8-609E7265BCEE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8D27-2E7A-4C3F-8BA7-7532DD3BDF43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6D21-073F-49D9-BDAE-1E67083825D0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8FBC-9F02-4ECF-BC42-5E1974432533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375d3a"/>
                </a:solidFill>
                <a:latin typeface="Calisto MT"/>
              </a:rPr>
              <a:t>Unit 4 – Partons en voyage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066320" y="28954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98989"/>
                </a:solidFill>
                <a:latin typeface="Calisto MT"/>
              </a:rPr>
              <a:t>Leçon 3 A </a:t>
            </a: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sto MT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75d3a"/>
                </a:solidFill>
                <a:latin typeface="Calisto MT"/>
              </a:rPr>
              <a:t>Les prépositions devant les noms de villes  et de pays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57200" y="2743200"/>
          <a:ext cx="7848720" cy="201132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n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se termine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a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pa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e terminent par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sont pluriel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5000"/>
          </a:bodyPr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 vous!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renez une feuille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aites 2 colonnes: Masc – Fem – Plur-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ous dis un nom de pays et vous devez le mettre dans la bonne colon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0120" indent="-24012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80520" y="1980720"/>
            <a:ext cx="403884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Itali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spag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Franc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apon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hin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hilippine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00" name="Rectangle 3"/>
          <p:cNvSpPr/>
          <p:nvPr/>
        </p:nvSpPr>
        <p:spPr>
          <a:xfrm flipH="1">
            <a:off x="4571280" y="1981080"/>
            <a:ext cx="3886200" cy="487692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an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a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Brés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Ken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57200" y="1905120"/>
          <a:ext cx="8229600" cy="5029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97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t AVEC 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80880" y="1371600"/>
          <a:ext cx="8534520" cy="556272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325116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45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Jap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aro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Brés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Ken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Ita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Espag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Côte d’Yvo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Allemag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8800" y="455760"/>
            <a:ext cx="7824960" cy="8395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Exceptions 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2120" y="2286000"/>
          <a:ext cx="7010280" cy="285588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9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Mex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4000"/>
          </a:bodyPr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Où est –ce que je vais? Je vous dis la ville, vous devez me dire le pays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Vous devez complétez la phrase avec la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bonne préposition 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our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ville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uis, trouvez de quel pays il s’agit.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buClr>
                <a:srgbClr val="990000"/>
              </a:buClr>
              <a:buSzPct val="75000"/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Complétez avec </a:t>
            </a:r>
            <a:r>
              <a:rPr b="1" lang="en-US" sz="3200" spc="-1" strike="noStrike">
                <a:solidFill>
                  <a:srgbClr val="262626"/>
                </a:solidFill>
                <a:latin typeface="Calisto MT"/>
              </a:rPr>
              <a:t>la bonne préposition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623880" indent="-623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nez un tableau et écrivez la préposition qui manque sur le tableau. </a:t>
            </a: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Modè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Fr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images-1.jpeg"/>
          <p:cNvPicPr/>
          <p:nvPr/>
        </p:nvPicPr>
        <p:blipFill>
          <a:blip r:embed="rId1"/>
          <a:stretch/>
        </p:blipFill>
        <p:spPr>
          <a:xfrm>
            <a:off x="6629400" y="1676520"/>
            <a:ext cx="16160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80880" y="1981080"/>
            <a:ext cx="8102880" cy="41450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Rappel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adrid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spa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9" descr="images-2.jpeg"/>
          <p:cNvPicPr/>
          <p:nvPr/>
        </p:nvPicPr>
        <p:blipFill>
          <a:blip r:embed="rId1"/>
          <a:stretch/>
        </p:blipFill>
        <p:spPr>
          <a:xfrm>
            <a:off x="5638680" y="1523880"/>
            <a:ext cx="274320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Québec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DownloadedFile-1.jpeg"/>
          <p:cNvPicPr/>
          <p:nvPr/>
        </p:nvPicPr>
        <p:blipFill>
          <a:blip r:embed="rId1"/>
          <a:stretch/>
        </p:blipFill>
        <p:spPr>
          <a:xfrm>
            <a:off x="5638680" y="1600200"/>
            <a:ext cx="27496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4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Rom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6"/>
          <p:cNvSpPr/>
          <p:nvPr/>
        </p:nvSpPr>
        <p:spPr>
          <a:xfrm>
            <a:off x="2819520" y="4267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Ita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9" descr="images-1.jpeg"/>
          <p:cNvPicPr/>
          <p:nvPr/>
        </p:nvPicPr>
        <p:blipFill>
          <a:blip r:embed="rId1"/>
          <a:stretch/>
        </p:blipFill>
        <p:spPr>
          <a:xfrm>
            <a:off x="5257800" y="1219320"/>
            <a:ext cx="3033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5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oscou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8" descr="images-4.jpeg"/>
          <p:cNvPicPr/>
          <p:nvPr/>
        </p:nvPicPr>
        <p:blipFill>
          <a:blip r:embed="rId1"/>
          <a:stretch/>
        </p:blipFill>
        <p:spPr>
          <a:xfrm>
            <a:off x="5257800" y="114300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6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Genève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9" descr="images-3.jpeg"/>
          <p:cNvPicPr/>
          <p:nvPr/>
        </p:nvPicPr>
        <p:blipFill>
          <a:blip r:embed="rId1"/>
          <a:stretch/>
        </p:blipFill>
        <p:spPr>
          <a:xfrm>
            <a:off x="5562720" y="1752480"/>
            <a:ext cx="269064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7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Tokyo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3809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images-5.jpeg"/>
          <p:cNvPicPr/>
          <p:nvPr/>
        </p:nvPicPr>
        <p:blipFill>
          <a:blip r:embed="rId1"/>
          <a:stretch/>
        </p:blipFill>
        <p:spPr>
          <a:xfrm>
            <a:off x="5715000" y="1676520"/>
            <a:ext cx="25430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8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bidja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1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ôte d’Yv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10"/>
          <p:cNvSpPr/>
          <p:nvPr/>
        </p:nvSpPr>
        <p:spPr>
          <a:xfrm>
            <a:off x="3048120" y="426708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images-1.jpeg"/>
          <p:cNvPicPr/>
          <p:nvPr/>
        </p:nvPicPr>
        <p:blipFill>
          <a:blip r:embed="rId1"/>
          <a:stretch/>
        </p:blipFill>
        <p:spPr>
          <a:xfrm>
            <a:off x="5181480" y="1676520"/>
            <a:ext cx="3114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9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Atlanta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ats-U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images.jpeg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Berlin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emag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2590920" y="42670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1" descr="images-2.jpeg"/>
          <p:cNvPicPr/>
          <p:nvPr/>
        </p:nvPicPr>
        <p:blipFill>
          <a:blip r:embed="rId1"/>
          <a:stretch/>
        </p:blipFill>
        <p:spPr>
          <a:xfrm>
            <a:off x="5181480" y="121932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76356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Chasse au trésor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880" y="1980720"/>
            <a:ext cx="8102880" cy="17528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1.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Je vais _____ Mexico City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3520" y="4191120"/>
            <a:ext cx="8102520" cy="20574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Vous alle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3809880" y="42670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x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7"/>
          <p:cNvSpPr/>
          <p:nvPr/>
        </p:nvSpPr>
        <p:spPr>
          <a:xfrm>
            <a:off x="22096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0"/>
          <p:cNvSpPr/>
          <p:nvPr/>
        </p:nvSpPr>
        <p:spPr>
          <a:xfrm>
            <a:off x="274320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8" descr="images-3.jpeg"/>
          <p:cNvPicPr/>
          <p:nvPr/>
        </p:nvPicPr>
        <p:blipFill>
          <a:blip r:embed="rId1"/>
          <a:stretch/>
        </p:blipFill>
        <p:spPr>
          <a:xfrm>
            <a:off x="5880240" y="1060560"/>
            <a:ext cx="25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0880" y="1980720"/>
            <a:ext cx="8102880" cy="342900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 fontScale="87000"/>
          </a:bodyPr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Questions :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sto MT"/>
              </a:rPr>
              <a:t>Regardez les prépositions devant Paris et France?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Zazie Vandertrampp est allée </a:t>
            </a:r>
            <a:r>
              <a:rPr b="1" lang="en-US" sz="4400" spc="-1" strike="noStrike">
                <a:solidFill>
                  <a:srgbClr val="262626"/>
                </a:solidFill>
                <a:latin typeface="Calisto MT"/>
              </a:rPr>
              <a:t>en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France et elle a restée </a:t>
            </a:r>
            <a:r>
              <a:rPr b="1" lang="en-US" sz="4800" spc="-1" strike="noStrike">
                <a:solidFill>
                  <a:srgbClr val="262626"/>
                </a:solidFill>
                <a:latin typeface="Calisto MT"/>
              </a:rPr>
              <a:t>à</a:t>
            </a: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 Paris.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45520" indent="-245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1. Devant un nom de villes (pour dire où on est, ou où on va, on doit utiliser)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À + nom de la ville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Ex. Nous habitons _____   Fairfield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pic>
        <p:nvPicPr>
          <p:cNvPr id="374" name="Picture 3" descr="images.jpeg"/>
          <p:cNvPicPr/>
          <p:nvPr/>
        </p:nvPicPr>
        <p:blipFill>
          <a:blip r:embed="rId1"/>
          <a:stretch/>
        </p:blipFill>
        <p:spPr>
          <a:xfrm>
            <a:off x="2971800" y="3048120"/>
            <a:ext cx="3289320" cy="24638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4574880" y="1905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main, nous allons _____   New York 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78" name="TextBox 4"/>
          <p:cNvSpPr/>
          <p:nvPr/>
        </p:nvSpPr>
        <p:spPr>
          <a:xfrm>
            <a:off x="503208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DownloadedFile.jpeg"/>
          <p:cNvPicPr/>
          <p:nvPr/>
        </p:nvPicPr>
        <p:blipFill>
          <a:blip r:embed="rId1"/>
          <a:stretch/>
        </p:blipFill>
        <p:spPr>
          <a:xfrm>
            <a:off x="2514600" y="3200400"/>
            <a:ext cx="3289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Pour les vacances, nous allons _____   Miami. 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743040" indent="-74304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08600" y="1981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6" descr="DownloadedFile-1.jpeg"/>
          <p:cNvPicPr/>
          <p:nvPr/>
        </p:nvPicPr>
        <p:blipFill>
          <a:blip r:embed="rId1"/>
          <a:stretch/>
        </p:blipFill>
        <p:spPr>
          <a:xfrm>
            <a:off x="2401920" y="3173400"/>
            <a:ext cx="32130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2. 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2743200"/>
          <a:ext cx="7848720" cy="19512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375d3a"/>
                </a:solidFill>
                <a:latin typeface="Calisto MT"/>
              </a:rPr>
              <a:t>Les Préposi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0880" y="1981080"/>
            <a:ext cx="8102880" cy="4267440"/>
          </a:xfrm>
          <a:prstGeom prst="rect">
            <a:avLst/>
          </a:prstGeom>
          <a:solidFill>
            <a:srgbClr val="f5cd73"/>
          </a:solidFill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sto MT"/>
              </a:rPr>
              <a:t>Devant un nom de pays, on utilise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2743200"/>
          <a:ext cx="7848720" cy="193500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4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MASCUL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FÉMIN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sto MT"/>
                        </a:rPr>
                        <a:t>NOMS DE PAYS PLURIE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7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 CAN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EN FRA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sto MT"/>
                        </a:rPr>
                        <a:t>AUX ETATS-U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1:55:37Z</dcterms:created>
  <dc:creator>Mr. Smith</dc:creator>
  <dc:description/>
  <dc:language>en-US</dc:language>
  <cp:lastModifiedBy>GREBERT,VIVIANE</cp:lastModifiedBy>
  <dcterms:modified xsi:type="dcterms:W3CDTF">2017-03-14T18:16:08Z</dcterms:modified>
  <cp:revision>102</cp:revision>
  <dc:subject/>
  <dc:title>Allez, viens! – Level 2</dc:title>
</cp:coreProperties>
</file>